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316-35DB-49AE-A9E2-EC329FD3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260-CEFD-4554-8228-DB010E0A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129-C9E1-40D8-848A-C9C1E372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68C-1D85-4CCD-8875-F5614779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34704-21BF-4A68-B17F-25DE730C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1A751-6D14-4CD6-A88D-B6134B6B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ADF1B-3630-44B4-9F47-484FD927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E5DB5-B2DC-4B1C-9074-D0F434A6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0D114-3A59-4C98-BBB4-25469F67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74132-3C00-4C1B-8FBF-5A7B05CE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E8566-0DCD-4FAB-80E1-1CB4B069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901-5391-447E-8559-7A4C19CA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8C85A-843B-40BA-9787-0B48DFA2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EDF8D-A235-4D17-92F8-ED6421A1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E5AA3-D0EB-4446-AD0B-0998C228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AB838-7A7A-49B4-BBCE-79B64ADA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1B437-6921-43D7-B2AF-511AC365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09F-1491-4B30-97DD-6E62BA30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068-0FC2-49A5-BE7D-74B601F9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491-4947-434B-BB88-EDDC55B3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41D-BA0F-4FC8-AE15-F235017F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720-7EB8-4940-88E0-E7812905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CFF-D73F-4389-8F34-94EE7822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CA3-0320-40CA-99EF-EB1340A5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B819-C2D5-486A-A36A-84354DA5AD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84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4BAB-2587-49BA-8B54-0801E380DD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84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招聘渠道的选择与拓展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28222-A52E-4B27-A4E7-819CD2268D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1840" y="177336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１、哪些情况下需对渠道进行合理组合运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跨行业的综合性企业集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速发展的公司需异地扩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招聘突发期的紧急招聘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招聘职位具有明显的层次性与差别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招聘渠道单一，某些核心岗位难以突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820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99"/>
                </a:solidFill>
                <a:latin typeface="黑体"/>
                <a:ea typeface="黑体"/>
              </a:rPr>
              <a:t>五、如何对招聘渠道进行组合运用</a:t>
            </a:r>
            <a:br>
              <a:rPr sz="2600"/>
            </a:br>
            <a:endParaRPr b="0" lang="en-US" sz="2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440-CB36-491C-9DB5-8AE0E53C693F}" type="slidenum">
              <a:t>10</a:t>
            </a:fld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对阶段性招聘数据进行统计分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cc0099"/>
                </a:solidFill>
                <a:latin typeface="Tahoma"/>
              </a:rPr>
              <a:t>需纪录的各种招聘渠道（包括细分渠道）的数据如下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简历数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面试人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录取人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cc0099"/>
                </a:solidFill>
                <a:latin typeface="Tahoma"/>
              </a:rPr>
              <a:t>从而计算出评估招聘渠道有效性的指标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有效简历率（面试人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简历总数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面试录取率（录取人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面试人数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综合成功率（有效简历率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录取成功率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以上三个指标可以在季度、半年度与年终统计一次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3172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  <a:ea typeface="宋体"/>
              </a:rPr>
              <a:t>２、如何合理组合招聘渠道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480-AD6F-4378-BB92-736105D8B0F5}" type="slidenum">
              <a:t>11</a:t>
            </a:fld>
          </a:p>
        </p:txBody>
      </p:sp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72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某时尚配饰及精品品牌企业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7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年招聘数据</a:t>
            </a:r>
            <a:r>
              <a:rPr b="0" lang="zh-CN" sz="2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1268280"/>
          <a:ext cx="8209080" cy="2579760"/>
        </p:xfrm>
        <a:graphic>
          <a:graphicData uri="http://schemas.openxmlformats.org/drawingml/2006/table">
            <a:tbl>
              <a:tblPr/>
              <a:tblGrid>
                <a:gridCol w="1440000"/>
                <a:gridCol w="1177920"/>
                <a:gridCol w="993600"/>
                <a:gridCol w="947880"/>
                <a:gridCol w="1274760"/>
                <a:gridCol w="1147680"/>
                <a:gridCol w="1227240"/>
              </a:tblGrid>
              <a:tr h="576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渠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简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总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面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录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有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简历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录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成功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综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成功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现场招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网络招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报刊广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猎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2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人才寻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内部推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8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9640" y="4797360"/>
          <a:ext cx="8136000" cy="1441440"/>
        </p:xfrm>
        <a:graphic>
          <a:graphicData uri="http://schemas.openxmlformats.org/drawingml/2006/table">
            <a:tbl>
              <a:tblPr/>
              <a:tblGrid>
                <a:gridCol w="1440000"/>
                <a:gridCol w="988920"/>
                <a:gridCol w="1136880"/>
                <a:gridCol w="1145880"/>
                <a:gridCol w="1140120"/>
                <a:gridCol w="1141200"/>
                <a:gridCol w="114300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衡量指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排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排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排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排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排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排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有效简历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猎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人才寻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现场招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内部推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网络招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报刊广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面试录取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人才寻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现场招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内部推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网络招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猎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报刊广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综合成功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d60093"/>
                          </a:solidFill>
                          <a:latin typeface="Tahoma"/>
                          <a:ea typeface="宋体"/>
                        </a:rPr>
                        <a:t>人才寻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d60093"/>
                          </a:solidFill>
                          <a:latin typeface="Tahoma"/>
                          <a:ea typeface="宋体"/>
                        </a:rPr>
                        <a:t>猎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d60093"/>
                          </a:solidFill>
                          <a:latin typeface="Tahoma"/>
                          <a:ea typeface="宋体"/>
                        </a:rPr>
                        <a:t>现场招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内部推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网络招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报刊广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90400" y="35002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宋体"/>
              </a:rPr>
              <a:t>渠道有效性指标排序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BB5-55E2-4D6D-BEAE-71CA186C19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99"/>
                </a:solidFill>
                <a:latin typeface="黑体"/>
                <a:ea typeface="黑体"/>
              </a:rPr>
              <a:t>六、寻猎中高端人才有哪些有效渠道（案例分享）</a:t>
            </a:r>
            <a:br>
              <a:rPr sz="2800"/>
            </a:br>
            <a:endParaRPr b="0" lang="en-US" sz="2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cc0099"/>
                </a:solidFill>
                <a:latin typeface="Tahoma"/>
              </a:rPr>
              <a:t>１、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案例背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产公司在区域行业市场内排名前十位，属于一颗异军突起的新星，在区域市场已经形成了很好的品牌知名度与美誉度；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几年来盈利状况较佳，处于高速发展阶段，同时凭借丰富的土地储备建立了可持续发展的基础，目前有优质的大型项目在运作，急需中高级人才的加盟；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管理上逐步实现了专业化、规范化的管理，用人理念开明，人才团队富有开拓创新的激情与高效协作的意识。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84A-E02A-4AB7-A2C8-5AF2607CC0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２、招聘任务及条件要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任务：组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异地项目开发团队（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名中高层岗位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条件要求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才年龄定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0-3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岁（项目总经理可有所突破，但不能超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岁）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精通地产开发本专业领域工作，实操能力强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参与过大型知名地产项目的全程开发，具有全局性与前瞻性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具有良好的职业素养，适应专业化管理方式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有工作激情，善于开拓创新，以成为职业经理人为发展目标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极强的计划执行能力与沟通协调能力，善于整合各种资源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…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E09-2267-4B93-96C8-70B484B6AB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362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招聘人员通过网络人才库主动搜寻人才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与招聘网站建立中长期的中高级人才推荐渠道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收集公司中高层管理者的名片集，挖掘可用的人才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要求业务部门提供他们在项目合作中发现的优秀人才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购买现成的行业姓名信息数据库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向第一天上班的新员工询问：“你以前工作的公司还有哪些优秀的人才？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请公司内部的骨干员工提供他们曾交过手的竞争对手的名单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4995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、开展招聘“蓝海行动”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DF9-0F53-4E9A-B175-FD7498F667A0}" type="slidenum">
              <a:t>15</a:t>
            </a:fld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720" y="2193840"/>
            <a:ext cx="87850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建立员工内部推荐制度，对推荐的优秀人才的员工予以奖励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审阅竞争对手发布的通告，关注其中提到所聘用和提拔的人才名单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在数据库中查找曾到公司应聘（但未被聘用的）的高资历人才名单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参加行业精英人物的聚会，包括研讨会、洽谈会、交流会、招聘会、培训会甚至休闲娱乐聚会等，及时“捕捉”人才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高中级人才的大型招聘会与知名企业的专场招聘会上“伏击”人才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发出网上“人才通缉令”，高额“悬赏”举荐优秀人才者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从应聘者提供的证明人信息中挖掘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0F5-D961-45ED-973B-21653A03821E}" type="slidenum">
              <a:t>16</a:t>
            </a:fld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122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经过以上非常规多渠道运作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司在短短两个月时间内就成功完成项目团队组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任务，为项目的顺利开展奠定了良好的基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755640" y="1803240"/>
            <a:ext cx="749952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、招聘成效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C5A-AB29-4F73-9914-B21EA6FFA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１、招聘渠道发展新趋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企业招聘范围延伸，招聘与猎头融合，营销能力重要性凸显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聘随时随地发生，变成整合资源的全员营销体系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渠道走向个性化与多样化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7644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ahoma"/>
                <a:ea typeface="黑体"/>
              </a:rPr>
              <a:t>七、招聘渠道发展趋势与新兴渠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AE2-7105-47C7-A262-6A109E44517B}" type="slidenum">
              <a:t>18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２、新兴招聘渠道及相关问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网络渠道细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网猎（网络悬赏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邮件与短信群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行业、专业网站及论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特定人群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B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专业人士、校友）组织的网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聊天室（群、组）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S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Q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求职博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blo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招聘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企业招聘日（预约式招聘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才中介整体解决方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才租赁（人才派遣、人事外包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E07-C3A0-45FE-B771-92C5B67BACE7}" type="slidenum">
              <a:t>19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491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大   纲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为什么要重视招聘渠道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不同招聘渠道的效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成本分析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如何根据招聘职位选择招聘渠道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如何根据企业发展阶段选择合适的招聘渠道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哪些情况下需对渠道进行合理组合运用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寻猎中高端人才有哪些有效渠道（企业案例分享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招聘渠道发展趋势与新兴招聘渠道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0D4-E9F7-491F-AE8A-0989CDF628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2888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同行业间资源共享、同行间资源共享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参加培训班的通讯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兼职猎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公交车内的电子报站显示屏、移动电视终端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高级写字楼及高级居民楼电梯口的液晶广告显示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休闲式同行聚会场合——酒吧招聘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电视媒体求职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K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如智联招聘“绝对挑战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企业开放式接待外部参观访问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建立企业大学，将培训与招聘相结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F36-8EBD-4E8E-BD71-892177E7F7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76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与招聘工作者共勉</a:t>
            </a:r>
            <a:endParaRPr b="0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499760"/>
            <a:ext cx="8736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今人才争夺战已经进入白热化阶段，企业的招聘不仅是与竞争对手作战，更是与自身作战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场战争中，渠道之战无疑是最明智之战，也是最重要之战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场战争中，机遇与风险并存，需要智慧与勇气俱备，渠道选择上更需要前者，渠道执行时更需要后者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445-4972-413E-A4E6-C14C5E3ED1AF}" type="slidenum">
              <a:t>21</a:t>
            </a:fld>
          </a:p>
        </p:txBody>
      </p:sp>
    </p:spTree>
  </p:cSld>
  <p:transition>
    <p:comb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99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799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799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799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998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998"/>
                            </p:stCondLst>
                            <p:childTnLst>
                              <p:par>
                                <p:cTn id="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998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998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最有效的招聘是资源的整合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最高层次的竞争是模式的竞争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最深远的招聘是雇主品牌的建设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481-03E0-46AB-8A65-5D1A32B44349}" type="slidenum">
              <a:t>22</a:t>
            </a:fld>
          </a:p>
        </p:txBody>
      </p:sp>
    </p:spTree>
  </p:cSld>
  <p:transition>
    <p:comb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3040" y="6858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zh-CN" sz="2600" spc="-1" strike="noStrike">
                <a:solidFill>
                  <a:srgbClr val="cc0099"/>
                </a:solidFill>
                <a:latin typeface="黑体"/>
                <a:ea typeface="黑体"/>
              </a:rPr>
              <a:t>一、为什么要重视招聘渠道</a:t>
            </a:r>
            <a:endParaRPr b="0" lang="en-US" sz="2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133720"/>
            <a:ext cx="829944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招聘流程“中间陷落”的趋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漏斗原理——进口决定出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渠道策略——批量化解决招聘问题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渠道第一（人才来源），甄选第二（人才标准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B21-9F01-40AF-9C15-F17FE7720840}" type="slidenum">
              <a:t>3</a:t>
            </a:fld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3040" y="40464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2600" spc="-1" strike="noStrike">
                <a:solidFill>
                  <a:srgbClr val="cc0099"/>
                </a:solidFill>
                <a:latin typeface="黑体"/>
                <a:ea typeface="黑体"/>
              </a:rPr>
              <a:t>二、不同招聘渠道的效率</a:t>
            </a:r>
            <a:r>
              <a:rPr b="1" lang="en-US" sz="2600" spc="-1" strike="noStrike">
                <a:solidFill>
                  <a:srgbClr val="cc0099"/>
                </a:solidFill>
                <a:latin typeface="黑体"/>
                <a:ea typeface="黑体"/>
              </a:rPr>
              <a:t>/</a:t>
            </a:r>
            <a:r>
              <a:rPr b="1" lang="zh-CN" sz="2600" spc="-1" strike="noStrike">
                <a:solidFill>
                  <a:srgbClr val="cc0099"/>
                </a:solidFill>
                <a:latin typeface="黑体"/>
                <a:ea typeface="黑体"/>
              </a:rPr>
              <a:t>成本分析</a:t>
            </a:r>
            <a:endParaRPr b="0" lang="en-US" sz="2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7800" y="2708280"/>
          <a:ext cx="8512200" cy="2222280"/>
        </p:xfrm>
        <a:graphic>
          <a:graphicData uri="http://schemas.openxmlformats.org/drawingml/2006/table">
            <a:tbl>
              <a:tblPr/>
              <a:tblGrid>
                <a:gridCol w="1152720"/>
                <a:gridCol w="1079280"/>
                <a:gridCol w="1295640"/>
                <a:gridCol w="1441440"/>
                <a:gridCol w="1439640"/>
                <a:gridCol w="1024200"/>
                <a:gridCol w="1079280"/>
              </a:tblGrid>
              <a:tr h="511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现场招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网络招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报刊广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猎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人才寻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内部推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效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★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影响范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命中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★★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91960" y="5300640"/>
            <a:ext cx="8456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cc3300"/>
                </a:solidFill>
                <a:latin typeface="Tahoma"/>
                <a:ea typeface="楷体_GB2312"/>
              </a:rPr>
              <a:t>备注：以★表示评价，★越多表示对这一维度的评价越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960" y="1844640"/>
            <a:ext cx="831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ahoma"/>
                <a:ea typeface="宋体"/>
              </a:rPr>
              <a:t>1</a:t>
            </a:r>
            <a:r>
              <a:rPr b="1" lang="zh-CN" sz="2200" spc="-1" strike="noStrike">
                <a:solidFill>
                  <a:srgbClr val="cc3300"/>
                </a:solidFill>
                <a:latin typeface="Tahoma"/>
                <a:ea typeface="宋体"/>
              </a:rPr>
              <a:t>、各种招聘渠道的特点对比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5A8-A7E8-4044-9E3F-8CBA5EFB9591}" type="slidenum">
              <a:t>4</a:t>
            </a:fld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zh-CN" sz="2600" spc="-1" strike="noStrike">
                <a:solidFill>
                  <a:srgbClr val="cc3300"/>
                </a:solidFill>
                <a:latin typeface="Tahoma"/>
              </a:rPr>
              <a:t>、各类渠道招聘人数与费用综合对比（示例）</a:t>
            </a:r>
            <a:endParaRPr b="0" lang="en-US" sz="2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1341360"/>
          <a:ext cx="9649080" cy="532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341360"/>
                    <a:ext cx="96490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138-DBEB-4060-A220-2E078AF91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5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入小产出大：内部推荐、网络招聘；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5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入大产出少：现场招聘、报纸招聘与猎头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对策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5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部推荐可增加宣传与激励力度；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5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开网络招聘网站；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5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纸广告充分造势；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5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参加现场招聘会；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5000"/>
              </a:lnSpc>
              <a:spcBef>
                <a:spcPts val="550"/>
              </a:spcBef>
              <a:buClr>
                <a:srgbClr val="ff33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猎头渠道深入开展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E7B-5063-4B8F-B07D-8A8C34FB56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15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99"/>
                </a:solidFill>
                <a:latin typeface="黑体"/>
                <a:ea typeface="黑体"/>
              </a:rPr>
              <a:t>三、如何根据招聘职位选择招聘渠道</a:t>
            </a:r>
            <a:br>
              <a:rPr sz="2600"/>
            </a:br>
            <a:endParaRPr b="0" lang="en-US" sz="2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0120" y="1413000"/>
          <a:ext cx="7859520" cy="507348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2808000"/>
              </a:tblGrid>
              <a:tr h="321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3300"/>
                          </a:solidFill>
                          <a:latin typeface="Tahoma"/>
                          <a:ea typeface="宋体"/>
                        </a:rPr>
                        <a:t>渠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3300"/>
                          </a:solidFill>
                          <a:latin typeface="Tahoma"/>
                          <a:ea typeface="宋体"/>
                        </a:rPr>
                        <a:t>目标群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3300"/>
                          </a:solidFill>
                          <a:latin typeface="Tahoma"/>
                          <a:ea typeface="宋体"/>
                        </a:rPr>
                        <a:t>重点招聘岗位（示例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人才寻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同行中级人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关键核心岗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稀缺特殊岗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设计经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建筑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项目总经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猎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高级管理人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高级专业人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分公司总经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财务总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设计经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现场招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拟离职或已离职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通用型岗位及一般专业岗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土建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造价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会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内部推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中级、初级人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中层、基层通用或专业岗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普通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文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销售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网络招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在职人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通用型岗位及一般专业岗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经常上网的人群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普通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职能管理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策划经理、 策划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报刊广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通用型岗位及一般专业岗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信息灵敏的人群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策划经理、策划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职能管理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ff33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　普通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85E-5A6F-4DBA-A4AC-D4658C801F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20000"/>
              </a:lnSpc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Tahoma"/>
              </a:rPr>
              <a:t>特殊岗位的个性化招聘渠道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社区推荐 、退伍兵人才市场 （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VD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制造企业、保安与司机 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校企合作建立人才输送基地 （某印刷企业、技术人员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供应商专业培训班定期输送（某食品连锁专卖企业、 食品制作师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公司技术专家到各大学巡回演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某通信设备供应商、开发人员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协议公司租借员工（某药品制造商、包装工人）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提供高校大三学生实习（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企业、程序员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公交车、步行街广告（某电子公司、普工；某人才招聘网站、会员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企业人才库搜寻、离职员工召回（某手机分销商、业务经理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专业培训机构 （某高尔夫球场、球童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BA1-6751-45B8-88A0-7C8466D17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99"/>
                </a:solidFill>
                <a:latin typeface="黑体"/>
                <a:ea typeface="黑体"/>
              </a:rPr>
              <a:t>四、企业如何根据发展阶段选择合适的招聘渠道</a:t>
            </a:r>
            <a:br>
              <a:rPr sz="2600"/>
            </a:br>
            <a:endParaRPr b="0" lang="en-US" sz="2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712880"/>
          <a:ext cx="8229600" cy="4740480"/>
        </p:xfrm>
        <a:graphic>
          <a:graphicData uri="http://schemas.openxmlformats.org/drawingml/2006/table">
            <a:tbl>
              <a:tblPr/>
              <a:tblGrid>
                <a:gridCol w="1162080"/>
                <a:gridCol w="5113440"/>
                <a:gridCol w="1954080"/>
              </a:tblGrid>
              <a:tr h="494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渠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预期作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适用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才寻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提高针对性／突破招聘淡季／削弱竞争对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稳定发展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速发展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猎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借助资源／重点突破／节省时间精力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速发展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稳定发展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现场招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蓄积人气／体现企业实力／批量解决人才瓶颈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初创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速发展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内部推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提高稳定性／节省沟通成本／确保文化认同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稳定发展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速发展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网络招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提升传递效率／确保日常招聘量／节省费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个时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报刊广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宣传造势／积聚简历／建立品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初创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速发展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4B4-DFE7-4469-97D6-4DE58F5241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5:03:38Z</dcterms:created>
  <dc:creator>eva_liao</dc:creator>
  <dc:description/>
  <dc:language>en-US</dc:language>
  <cp:lastModifiedBy>YlmF</cp:lastModifiedBy>
  <dcterms:modified xsi:type="dcterms:W3CDTF">2010-09-28T02:28:07Z</dcterms:modified>
  <cp:revision>1574</cp:revision>
  <dc:subject/>
  <dc:title>PowerPoint Presentation</dc:title>
</cp:coreProperties>
</file>